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319-BF50-48FC-8C36-631EF1135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169C-5886-438B-AF62-1AB7CFE2C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2FF-2119-4FC2-BFEB-66FF140F98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view Headers &amp; Footer Group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nding Theme you choose will modify location of H &amp; F.  More flexibility with Notes &amp; Handouts section.  Can Apply to one or All Slid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Header &amp; Footer to your project to includ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e, Class Name, and Page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A47-AEF4-4579-9ECB-16B9F17E9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91BD-08DF-4C45-9AB9-24E5A26434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quick access toolbar can be modified to add customized options and can be relocated to appear below the ribb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Modify quick access tool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A9B-BBDF-43C1-8BA0-FF3E7B5B3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F37-B682-4BE0-B566-B1C8A66B46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f you prefer using the keyboard instead of the mouse, you can press the ALT key to display the Key Tips ba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2BA-0737-4B46-80C3-B8EE067AF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B926-F3F9-4C21-AF2D-54D9802ED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6DB-8540-4B93-8294-45EBD855C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A803-75FC-4CD3-846F-F374008A66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owerPoint Window contains features includ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Office Button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how to save file and name file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</a:rPr>
              <a:t>(i.e. Assignment 1), using Save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bbon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ntrol center for PP, defaults to HOME; within each ribbon are groups; review 8 defaults; dialogue box launcher (keep brie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lide/Outline Pane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tab previews content and shows status of slide number; outline view shows text only of slide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tus Bar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slide location selected and identifies slide design “Them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 Pane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you to elaborate on bullet points with editable notes; you can print notes (show them this)  *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RULE of 7: 7x7- max of 7 words on a line, 7 lines per slide ;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 Add to notes section a welcome message help text (i.e., Hello, My name is ….today I will be presenting an interactive slides how to you on the Industrial Rev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 Buttons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options for slide views: Normal, Slide Sorter, and View Slide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oups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orementioned with Ribbon, will re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mand Tabs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visit with Rib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tle Bar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 name of save file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ick Access Toolbar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easy access to frequently used commands, customizable and accesable via right mouse click (will address l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ice Button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, Print, Email fil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8CE8-6D59-460F-A632-F54B80C29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6EC5-5DE4-4E01-A547-BDE1E5D4B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bon- Control T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 Ribb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ign Ribb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and start with a few items 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ert Rib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create title slide by inserting a Titl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enter place title on their slide which includes thei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ME and TITLE of PROJ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e Industrial R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modify text using the Home Ribbon and the quick access toolb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enter an information slide by either right mou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ing in slide pane or choosing new slide op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roup. Title with Content option is fine for this slide.  Enter Heading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team Pow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 and add a bullet point of information:  J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mes Watt invented steam engine in 1782; Hundreds of his machines used through Britai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insert a picture file (website/royalty free images) representing the project topic by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erting slide with Picture Caption O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 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CTURE tools tab and resizing an image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bib Citation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22DD-6E7D-48BA-9887-26039551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364-3DFB-40E9-B8B8-143EA520D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 Ribbon allows you to select a Theme and page orientation for your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Rib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THEME to your PowerPoint, you can modify your style, color, fo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ide Background Graph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box and slide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 and Font Customiz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s to modify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113-C695-46BF-BF18-00622EA6C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30C-4A5E-41A8-9377-5C6CC5B394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4D7-9DED-449F-9B61-B2816C21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D97-B7DD-475E-A194-99FE45D2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E33-96EE-4EAE-9526-7B8DDA18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B6F-BF3F-4772-A367-30B73C52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C122-0FB0-4A89-A7E2-98F7794E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924-83BA-4A51-922B-E44FA939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5E74-DE10-4120-B41C-C9DC4E9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44D-066C-4824-B111-2180BAF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D533-9C9A-462F-A881-22AE5BEA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D585-CE82-46BA-8138-31CD9F3A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4AD8-1EB8-4CC0-88EE-F6BBBC7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0B7-8AC4-4751-8B35-410BDF79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F80-D1BD-4E91-A851-74A24B5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A3ED-3DB5-4269-B43E-C8266101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CE76-CD08-4942-ACB3-B4B0719B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78E7-640C-4084-8898-96BBEBC7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0F52-A54D-4D77-81CA-F6C9DD4F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3E329-D86B-4E50-8DD5-AE2E3F41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F958A-8917-40FE-8FD6-4FF4AB8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35605-BF14-4316-AE77-E2290FA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DCE46-0DBA-48AF-A161-217E724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ADEFE-AF3D-4424-BAE3-0F334B3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805-D3D6-47BC-83AB-28A1A7F0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414E4-C66A-4703-A046-0F55182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F382F-A85E-457C-ABF3-FE3F1C61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E5D13-2889-428B-8903-E7FE9B6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8F02B-4D31-468B-826E-3685334D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CA168-941C-49FF-9EF5-946F2F77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C671E-A677-485D-9C41-F81F4F4B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9607F-A35B-4331-8E67-DFC66492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DB2C-98AD-44B9-96B9-5344397D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E4EB-0D56-45A3-984A-04BBBB12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BF63-D784-4C07-8EB4-7E310C91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FD3-16DA-47AE-ABD8-B4CE3B5A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70A9-908D-4644-8F25-219CCFA0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52A7-359A-446D-BC61-53954C6D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DDC3-9956-4726-9AED-177C657B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F0C3-FB08-4DF4-A13D-3C89DE1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F1CD-5441-4BAD-ADE9-06153D0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68F2-168D-4BFF-A098-0481CDC2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84F3-87E8-4462-A114-93E4775B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AF73-8D11-4F9A-9D87-00810B21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99A8-9B51-4352-9AD2-F2C22B8B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B3151-D5FA-4B82-B7C7-BC2D9896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C24-0E69-459F-B828-2A6A748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113D9-04B8-42F5-B606-959CC5BB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A9FE8-1B57-4BA5-9D31-FDE0EE50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9C245-E58A-4C41-B60F-BECA0D41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108A9-BCB6-4A2A-902C-CDB5C586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3875C-61B3-473A-92C1-CB89063E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3F938-CA25-4134-8BD3-7987EA9A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1ED52-43E8-4E1D-A746-5C3783A1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ECB83-E465-45E9-8607-362560C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A9A12-6950-4643-88AB-224AB0A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3123A-6F69-4A4C-93CA-5B9B3A92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2B9-289E-4C0A-AB4F-5210E074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3B27C-0611-4B55-A987-BF370041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2ACF2-E5A9-44B8-8458-05AC83D6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A12C4-76C1-4FE7-838A-C20DBEA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561D9-60C5-4949-A761-351E2095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01DEB-72EF-45FB-9522-94059BA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C315C-FEEE-4D4F-B09A-8A77153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0C662-1FAA-4AF6-A21B-6132D6D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41220-7C0B-45B9-9D4F-06A9B1D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7E7E7-1EB2-4870-B8DE-DF78FF6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BAF2B-12A1-4087-A4FC-67CA142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362-7525-43BB-B330-3EAF46CC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84D44-5E30-484B-95E8-2FEEF8E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6176B-E3E9-4B4F-8285-9E1BEAA4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811AD-8B2D-4903-9F45-00615746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8D2C1-AAC2-428C-BDA3-BC725B44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5E04E-39DE-4442-935D-F990DF0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1F5BB-3303-4B4C-9B05-5792473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1692E-F4E6-4898-B28D-F7D8F588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40ED9-B72A-46BB-80A3-FA82BE51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0A476-58BA-44E7-B321-C4BB31D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A6907-AE71-4B3B-BEF6-8564A4D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59D-65DE-4056-B4F1-CA70E524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09E6D-0188-4962-831F-2C44162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62828-91AE-4AA1-BA28-DC5A742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F24DE-E7DB-4848-86BB-9EA0151B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7712B-12AA-47B7-87C4-3234A228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BF789-D8A7-4E31-88FD-2AD2E345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9C7-74F2-4011-8009-5F7118E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D953-A9B3-4DC0-80F8-5051FC7F71C6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B5C-B8E5-498B-BF08-A805EB726ED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AD8F-2282-451A-B166-BE3AC7EE4A6F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589C-51FA-427A-B8DD-E9C738F6A2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338-0F8B-48C4-A585-8F7CA554E1DF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DD52-BA13-4A12-8533-1902306316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776-6094-4CA3-87C8-76800FB9CF61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8006-31BD-41D3-9185-7C402BEC89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FC1A-1A69-49A9-8E76-12B9473424D2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288-B138-4DF5-A722-A3673CD7E2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16B0-C6C9-4819-A20A-C0F6234669AB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EBF6-6D39-4B85-A89B-9636EB08E7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B07-612C-4223-AC75-244B774013D4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8D25-B509-4916-BCDC-761FB15302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</a:rPr>
              <a:t>BEYOND POWERPOINT BULLETS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14240" y="25146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eek 1: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Content Review of Simple/Moderate Functions of 2007 MS P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Footer Placeholder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9150-4E55-4A6D-B81E-EDDE19FA36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www.clker.com/cliparts/f/4/8/c/11949850421205223696paint_brush_costea_bogda_01.svg.hi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956400">
            <a:off x="4068360" y="2898360"/>
            <a:ext cx="2716200" cy="3376800"/>
          </a:xfrm>
          <a:prstGeom prst="rect">
            <a:avLst/>
          </a:prstGeom>
          <a:ln w="0">
            <a:noFill/>
          </a:ln>
        </p:spPr>
      </p:pic>
      <p:sp>
        <p:nvSpPr>
          <p:cNvPr id="363" name="Date Placeholder 6"/>
          <p:cNvSpPr/>
          <p:nvPr/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D38A-1A68-4B26-8E3D-3C837DF81708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HEADERS &amp; FOOTERS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76BD-260D-4FE8-85CE-F6F6C944AD4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lick on the Header and Footer Button in PowerPoint"/>
          <p:cNvPicPr/>
          <p:nvPr/>
        </p:nvPicPr>
        <p:blipFill>
          <a:blip r:embed="rId1"/>
          <a:srcRect l="21452" t="0" r="0" b="0"/>
          <a:stretch/>
        </p:blipFill>
        <p:spPr>
          <a:xfrm>
            <a:off x="380880" y="1523880"/>
            <a:ext cx="3627720" cy="3475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eader and Footer Window in PowerPoint"/>
          <p:cNvPicPr/>
          <p:nvPr/>
        </p:nvPicPr>
        <p:blipFill>
          <a:blip r:embed="rId2"/>
          <a:stretch/>
        </p:blipFill>
        <p:spPr>
          <a:xfrm>
            <a:off x="2514600" y="2514600"/>
            <a:ext cx="5589720" cy="3927600"/>
          </a:xfrm>
          <a:prstGeom prst="rect">
            <a:avLst/>
          </a:prstGeom>
          <a:ln w="0">
            <a:noFill/>
          </a:ln>
        </p:spPr>
      </p:pic>
      <p:sp>
        <p:nvSpPr>
          <p:cNvPr id="419" name="Date Placeholder 7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DD5-747F-4965-8424-930CA1C5F265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Headers and Footers can be added to notes handout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B06-F942-4E13-B946-5F18450D2E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425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3F7-C105-4C1D-82AF-FFA837ED3695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QUICK TOOLBAR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AAB7-949E-488F-A7A7-7999AEC795F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Date Placeholder 7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8006-002B-418D-9B32-CF5DB4797200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9" descr="http://0.tqn.com/d/presentationsoft/1/5/G/E/-/-/quickaccesstoolbar2.gif"/>
          <p:cNvPicPr/>
          <p:nvPr/>
        </p:nvPicPr>
        <p:blipFill>
          <a:blip r:embed="rId1"/>
          <a:stretch/>
        </p:blipFill>
        <p:spPr>
          <a:xfrm>
            <a:off x="2590920" y="1371600"/>
            <a:ext cx="4114800" cy="4599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KEY TIPS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E40-7C12-4731-8774-A47A7D33F1E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e Placeholder 7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294-4B83-4FC0-A474-08D018FF1514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http://www.word07.com/images/key-tips.jpg"/>
          <p:cNvPicPr/>
          <p:nvPr/>
        </p:nvPicPr>
        <p:blipFill>
          <a:blip r:embed="rId1"/>
          <a:srcRect l="0" t="0" r="31494" b="0"/>
          <a:stretch/>
        </p:blipFill>
        <p:spPr>
          <a:xfrm>
            <a:off x="414360" y="1981080"/>
            <a:ext cx="7891560" cy="2362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603360" y="262080"/>
            <a:ext cx="7480080" cy="1500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755640" y="1139760"/>
            <a:ext cx="6797520" cy="546264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E0D-3948-4257-B460-3F91228368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http://officialpetsociety.files.wordpress.com/2010/07/red-french-beret.png?w=160&amp;h=160"/>
          <p:cNvPicPr/>
          <p:nvPr/>
        </p:nvPicPr>
        <p:blipFill>
          <a:blip r:embed="rId3"/>
          <a:srcRect l="20104" t="33546" r="21592" b="34396"/>
          <a:stretch/>
        </p:blipFill>
        <p:spPr>
          <a:xfrm rot="18157200">
            <a:off x="4809960" y="420840"/>
            <a:ext cx="666720" cy="3870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>
            <a:hlinkClick r:id="rId4" action="ppaction://hlinksldjump"/>
          </p:cNvPr>
          <p:cNvSpPr/>
          <p:nvPr/>
        </p:nvSpPr>
        <p:spPr>
          <a:xfrm>
            <a:off x="2133720" y="2438280"/>
            <a:ext cx="1523880" cy="821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Th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0">
            <a:hlinkClick r:id="rId5" action="ppaction://hlinksldjump"/>
          </p:cNvPr>
          <p:cNvSpPr/>
          <p:nvPr/>
        </p:nvSpPr>
        <p:spPr>
          <a:xfrm>
            <a:off x="1447920" y="3429000"/>
            <a:ext cx="1523880" cy="821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The Ribb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>
            <a:hlinkClick r:id="rId6" action="ppaction://hlinksldjump"/>
          </p:cNvPr>
          <p:cNvSpPr/>
          <p:nvPr/>
        </p:nvSpPr>
        <p:spPr>
          <a:xfrm>
            <a:off x="1905120" y="4495680"/>
            <a:ext cx="1523880" cy="821160"/>
          </a:xfrm>
          <a:prstGeom prst="ellipse">
            <a:avLst/>
          </a:prstGeom>
          <a:solidFill>
            <a:srgbClr val="ffaa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Slid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>
            <a:hlinkClick r:id="rId7" action="ppaction://hlinksldjump"/>
          </p:cNvPr>
          <p:cNvSpPr/>
          <p:nvPr/>
        </p:nvSpPr>
        <p:spPr>
          <a:xfrm>
            <a:off x="3352680" y="5105520"/>
            <a:ext cx="1676520" cy="821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Header &amp; Foo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5105520" y="4495680"/>
            <a:ext cx="1523880" cy="821160"/>
          </a:xfrm>
          <a:prstGeom prst="ellipse">
            <a:avLst/>
          </a:prstGeom>
          <a:solidFill>
            <a:srgbClr val="e40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Quick 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5638680" y="3429000"/>
            <a:ext cx="1524240" cy="477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Key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ate Placeholder 12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359D-E808-4457-A53B-77CF18952D93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THE WINDOW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8CF-0126-4ED7-9014-25E9E640434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http://hhh.gavilan.edu/jmaringer/PowerPoint2007/Photos/PPTwindow2007"/>
          <p:cNvPicPr/>
          <p:nvPr/>
        </p:nvPicPr>
        <p:blipFill>
          <a:blip r:embed="rId1"/>
          <a:stretch/>
        </p:blipFill>
        <p:spPr>
          <a:xfrm>
            <a:off x="533520" y="1600200"/>
            <a:ext cx="7238880" cy="5011560"/>
          </a:xfrm>
          <a:prstGeom prst="rect">
            <a:avLst/>
          </a:prstGeom>
          <a:ln w="0">
            <a:noFill/>
          </a:ln>
        </p:spPr>
      </p:pic>
      <p:sp>
        <p:nvSpPr>
          <p:cNvPr id="380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A994-75C7-47E3-A246-6796DDD164AC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of the following is NOT an option in the view buttons section of The Window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Normal Vie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Slide Sor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Slide Sh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Outline View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FD1E-D268-4509-A4DB-E0D77BBB14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9D3-5CFF-432F-9369-B912E4B046FB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While in Outline View, both images and text are viewa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0FAE-55A8-444A-9CC6-F93DC7525D9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391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A9BF-2626-4666-86A2-6C63844D0D0A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THE RIBBON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147C-D3D3-4A17-85E0-11ECCAB364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http://assets.gcflearnfree.org/topics/176/1_ribbon.png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3054240"/>
          </a:xfrm>
          <a:prstGeom prst="rect">
            <a:avLst/>
          </a:prstGeom>
          <a:ln w="0">
            <a:noFill/>
          </a:ln>
        </p:spPr>
      </p:pic>
      <p:sp>
        <p:nvSpPr>
          <p:cNvPr id="396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A236-BA3B-4F76-BE57-71BB5C2B7B56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ups within the Ribbon sometimes contain a Dialogue Box Laun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61D0-AE11-4127-9F58-A9847A8034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402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D75-4CFC-48E8-8CCA-98B70CA78043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SLIDE DESIGN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1810-672D-4A3B-9847-F231D9ECFD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http://www.addintools.com/documents/powerpoint/images/ppt-slide-designs-ribbon-675-296.png"/>
          <p:cNvPicPr/>
          <p:nvPr/>
        </p:nvPicPr>
        <p:blipFill>
          <a:blip r:embed="rId1"/>
          <a:stretch/>
        </p:blipFill>
        <p:spPr>
          <a:xfrm>
            <a:off x="838080" y="1600200"/>
            <a:ext cx="7297920" cy="3200400"/>
          </a:xfrm>
          <a:prstGeom prst="rect">
            <a:avLst/>
          </a:prstGeom>
          <a:ln w="0">
            <a:noFill/>
          </a:ln>
        </p:spPr>
      </p:pic>
      <p:sp>
        <p:nvSpPr>
          <p:cNvPr id="407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43CB-397A-48A7-8A24-E9823F3921F3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Under the Design Group, the use can orient his/her page setup as either landscape or  portrai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358-52A6-4BDB-8FD0-0D99C1AC54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413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5E41-21CF-46D9-9989-7A5085B7F9EF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8:53:35Z</dcterms:created>
  <dc:creator>shultqui</dc:creator>
  <dc:description/>
  <dc:language>en-US</dc:language>
  <cp:lastModifiedBy>shultqui</cp:lastModifiedBy>
  <dcterms:modified xsi:type="dcterms:W3CDTF">2012-03-07T13:34:10Z</dcterms:modified>
  <cp:revision>23</cp:revision>
  <dc:subject/>
  <dc:title>Beyond PowerPoint Bullets</dc:title>
</cp:coreProperties>
</file>